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27F0-5E22-472A-B3ED-5F6B3A6E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276A-61F3-4A22-8E1E-931B1F5F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7FF3-4D43-4708-97FC-67468C7B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9248-0309-49DD-B2FD-6D1B0339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54F5-DD38-416F-8FB7-25A18EDA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3312-8562-4DE1-ACF3-7736DA9E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3DE9-B26F-455E-BF32-C4A82AE3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1539-7B7C-4FB6-831F-43BB75BE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65C7-8136-4F99-B4E9-69661D2F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DD9C-CE7F-440D-9EE8-5F6A007E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5589-EDB7-44D5-A030-F8DDBCC7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89C6-9413-464C-A36B-A42C6FDA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9B00-7E1C-4403-BF5D-E2C0A75C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B810-387B-47C2-AF4D-2BCB1F9B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8669-0636-4580-8DCA-B5EDB122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D186-F95F-47EA-B247-A8D5BEAA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9B2A-7543-4E34-9B28-FA92D146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06FD-4D4B-4711-8CE0-2506F1F5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943B-33CF-4839-93D9-4BED8A66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F20A-ACD9-446C-9969-2D8E4460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F62C-1DCD-407C-9A7D-6B6BF095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69EC-3626-4389-8CE0-A5AA4E05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7FE2-771C-41D1-B193-2423C8B2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C809-B845-43B7-BA4E-6F825324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B178-E3C2-4CC9-9524-1D05186CBB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A2AE-1B34-4753-AB9B-94EE8CD87A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Preparation of the Body</a:t>
            </a:r>
            <a:br>
              <a:rPr sz="4400"/>
            </a:br>
            <a:br>
              <a:rPr sz="4400"/>
            </a:b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Methods of gathering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Lesson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Tuesday 25</a:t>
            </a:r>
            <a:r>
              <a:rPr b="1" lang="en-GB" sz="40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 Augu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reparation of the bo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omework due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uesday 1</a:t>
            </a:r>
            <a:r>
              <a:rPr b="1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Septe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swer the following question on A4 p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an activity of your choice, select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w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spects of fitness which are important to your performance. Explain why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spect of fitness is important.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4 mark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cribe in detai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you used to assess your fitness in a chosen activity. Explain why this method was appropri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4 mark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Period starter…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me and define all 6 aspects of physical fit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st 3 reasons why CRE and SPEED are important for a hockey midfie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me 3 aspects of skill-related and mental fit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oose 1 aspect of skill-related and mental fitness and explain it’s importance to hoc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me 2 methods of gathering information used in hoc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atch analysis schedu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hat does this give you information 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ow is a match analysis complet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hat do we do nex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651640" y="4365720"/>
            <a:ext cx="2590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tandardised te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ext step for us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ulti stage fitness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30m shuttle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llinois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hat do these tests give you information abou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ethods of gathering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cuss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th a partner list as many reasons as you can, why match analysis schedules and standardised tests are appropriate to use in hocke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have 5 mins to complete this task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ethods of gathering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Why are methods of gathering information appropria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ives initial data on whole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ives a permanent record of a performance (you can compa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e can use the same schedule again to re-evaluate and as a compa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athered in a performance situation – gives true ref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f used with video analysis we can rewind, pause, freeze frame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ethods of gathering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o identify times when the level of performance in the game was low and w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n be compared to national aver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o identify weaknesses that could be impro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o show how you performed in attack and def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You can use info to create a programme of work that will improve weakn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ethods of gathering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s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ad pages 12 – 15 in the booklet and complete page 1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reparation of the bo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echnology Time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og on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http://higher-pe.wikispace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08:14:35Z</dcterms:created>
  <dc:creator>FlemingC1</dc:creator>
  <dc:description/>
  <dc:language>en-US</dc:language>
  <cp:lastModifiedBy>FlemingC1</cp:lastModifiedBy>
  <dcterms:modified xsi:type="dcterms:W3CDTF">2009-08-25T08:38:51Z</dcterms:modified>
  <cp:revision>3</cp:revision>
  <dc:subject/>
  <dc:title>Preparation of the Body  Methods of gathering information</dc:title>
</cp:coreProperties>
</file>